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E9B9-4581-4C70-95BB-57C44D9A8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7599-D5F4-4A77-BAF0-348C8A1D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71FF-DA5F-4417-AD7C-002216C64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3ABC-60B8-4D0B-A642-B893575A3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B619-B837-4BC9-B868-90CEA6B2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E80E-F3FC-4EE5-A4A7-FF2502F1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215C-56AD-4636-B9C3-55831141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1009-2CD7-4C55-A9C6-88F3983A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EA6F-B82B-4A50-9D7C-1EF6935B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20D0-1305-4221-AE85-E1360686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165B-89D9-40D1-8F90-4059740D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38B8-4C0F-4DD4-AAD4-74EB16C8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4C8C-D313-41B1-A993-ECED8A688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VEST ŞI DE SUD-V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09680" y="38095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Geograf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028960" y="3105000"/>
            <a:ext cx="5086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siunea Iunie- Iul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d52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eastă regiun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ografi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 se află în partea de vest a continentului, la contactul cu Europa şi Africa. Are, în cea mai mare parte, limite marine, cele terestre fiind prezente numai în est, unde se învecinează cu Asia de Sud, şi pe o mică porţiune în nord, unde se întinde lanţul muntos Caucaz, care constituie graniţa dintre Asia şi Europa. Deşi deţine numai o şeptime din suprafaţa Asiei şi mai puţin de o zecime din populaţia acesteia, Asia de Vest şi de Sud-Vest concentrează peste 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ime din ţările continentului.Totodată este regiunea din Asia cu cea mai mare varietate de populaţii: arabi, persani şi turci – care formează majoritatea, evrei, armeni, greci, azeri, georgieni ş.a. Armenii, evreii şi grecii sunt printre cele mai vechi popoare ale lumi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Vest şi de Sud-Vest este cea mai bogată regiune din lume în petrol şi gaze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 dezvoltare economică, ţările de aici au niveluri difer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samblu, Asia de Vest şi de Sud–Vest este o regiune de platouri vechi, constând din: două peninsule, Arabia şi Asia Mică, ocupate de platouri înconjurate de munţi; Podişul Iranian, desfăşurat la est de Golful Persic; o câmpie joasă şi fertilă, Câmpia Mesopotamiei.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âmpia Mesopotamiei este singura câmpie mai întinsă din Asia de Vest şi de Sud–Vest. Este foarte fertilă, datorită celor două fluvii care 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limitează: Tigru şi Eufrat. Fertilitatea ei a favorizat încă din vechime dezvoltarea unor mari civilizaţii: sumeriană, akkadiană, babilonian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comp_i"/>
          <p:cNvPicPr/>
          <p:nvPr/>
        </p:nvPicPr>
        <p:blipFill>
          <a:blip r:embed="rId1"/>
          <a:stretch/>
        </p:blipFill>
        <p:spPr>
          <a:xfrm>
            <a:off x="5638680" y="1981080"/>
            <a:ext cx="2657520" cy="26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880" y="8377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ificarea ţărilor Asiei de Vest şi de Sud-V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Apropi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urcia, capitala: Ank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pru, capitala: Nico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ria, capitala: Dama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ban, capitala: Beir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srael, capitala: Ierusali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rdania, capitala: Amma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Mijloci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abia Saudită, capitala: Riy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Yemen, capitala: Sa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’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an, capitala: Musc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miratele Arabe Unite, capital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bu Dha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Qatar, capitala: Do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Bahrain, capitala: Manam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te ţ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menia, capitala: Erev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eorgia, capitala: Tbili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erbaijan,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pital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Ba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s7b2</cp:lastModifiedBy>
  <dcterms:modified xsi:type="dcterms:W3CDTF">2012-06-18T10:55:53Z</dcterms:modified>
  <cp:revision>38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